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4.gif" ContentType="image/gif"/>
  <Override PartName="/ppt/media/image2.png" ContentType="image/png"/>
  <Override PartName="/ppt/media/image24.jpeg" ContentType="image/jpeg"/>
  <Override PartName="/ppt/media/image3.jpeg" ContentType="image/jpeg"/>
  <Override PartName="/ppt/media/image1.jpeg" ContentType="image/jpeg"/>
  <Override PartName="/ppt/media/image22.jpeg" ContentType="image/jpeg"/>
  <Override PartName="/ppt/media/image4.gif" ContentType="image/gi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48D-2454-4320-ADBC-56F2852E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2A2-1464-4DE5-B6AA-C84F3B50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950F-9ADC-435B-AF71-4A12753A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854-7E10-4131-9236-CFC9328E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C3E-0F46-4AFC-8039-6178E431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499-C786-444B-AD75-2C795AE7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B95-F617-41DB-8EBF-EAFE0215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0FC-401D-4B53-B8ED-A8896B82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FDD-D3A2-4ABD-9A40-1A4F263A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181-ADE4-47BC-AEDD-C4CA29D6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455-CE40-4DFA-8FB7-90DF4EAA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A5E-90D1-4124-B13E-5F9985C2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6E9B-C122-445B-82AA-354242FCA8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634800">
            <a:off x="684000" y="1341000"/>
            <a:ext cx="6981840" cy="34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知荣辱，树新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596360" y="580536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356839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5400000">
            <a:off x="4498920" y="2997000"/>
            <a:ext cx="511308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以损人利己为耻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 rot="5400000">
            <a:off x="5326560" y="2458080"/>
            <a:ext cx="4897440" cy="1511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道德名言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08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1640" y="620640"/>
            <a:ext cx="7200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美德好比宝石，它在朴素背景衬托下 反而更华丽，同样一个打扮并不华丽，却端庄严肃而有美德的人是另人肃然起敬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一个人的高贵与否不在与他占有什么 甚至也不在于他做了什么 而在于他有什么样的品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知人者智 自知者明 胜人者力 自胜者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cc00"/>
                </a:solidFill>
                <a:latin typeface="Arial"/>
                <a:ea typeface="楷体_GB2312"/>
              </a:rPr>
              <a:t>不责人所不及 不强人所不能 不苦人所不知</a:t>
            </a:r>
            <a:r>
              <a:rPr b="0" lang="zh-CN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451640" y="4149720"/>
            <a:ext cx="1152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332000" y="1413000"/>
            <a:ext cx="6337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情景剧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908000" y="2060640"/>
            <a:ext cx="5040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4032"/>
                <a:gd name="adj2" fmla="val -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扫除中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692360" y="2133720"/>
            <a:ext cx="5976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7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考试中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692360" y="2852640"/>
            <a:ext cx="5759280" cy="151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22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【攀比】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92360" y="1628640"/>
            <a:ext cx="57592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『课堂上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04000" y="5084640"/>
            <a:ext cx="1295280" cy="1008360"/>
          </a:xfrm>
          <a:custGeom>
            <a:avLst/>
            <a:gdLst>
              <a:gd name="textAreaLeft" fmla="*/ 65160 w 1295280"/>
              <a:gd name="textAreaRight" fmla="*/ 1230120 w 129528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27744" h="21600">
                <a:moveTo>
                  <a:pt x="0" y="0"/>
                </a:moveTo>
                <a:lnTo>
                  <a:pt x="27744" y="0"/>
                </a:lnTo>
                <a:lnTo>
                  <a:pt x="27744" y="21600"/>
                </a:lnTo>
                <a:lnTo>
                  <a:pt x="0" y="21600"/>
                </a:lnTo>
                <a:close/>
              </a:path>
              <a:path fill="lightenLess" w="27744" h="21600">
                <a:moveTo>
                  <a:pt x="0" y="0"/>
                </a:moveTo>
                <a:lnTo>
                  <a:pt x="27744" y="0"/>
                </a:lnTo>
                <a:lnTo>
                  <a:pt x="26344" y="1400"/>
                </a:lnTo>
                <a:lnTo>
                  <a:pt x="1400" y="1400"/>
                </a:lnTo>
                <a:close/>
              </a:path>
              <a:path fill="darken" w="27744" h="21600">
                <a:moveTo>
                  <a:pt x="27744" y="0"/>
                </a:moveTo>
                <a:lnTo>
                  <a:pt x="27744" y="21600"/>
                </a:lnTo>
                <a:lnTo>
                  <a:pt x="26344" y="20200"/>
                </a:lnTo>
                <a:lnTo>
                  <a:pt x="26344" y="1400"/>
                </a:lnTo>
                <a:close/>
              </a:path>
              <a:path fill="darkenLess" w="27744" h="21600">
                <a:moveTo>
                  <a:pt x="27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44" y="20200"/>
                </a:lnTo>
                <a:close/>
              </a:path>
              <a:path fill="lighten" w="27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44" h="21600">
                <a:moveTo>
                  <a:pt x="6865" y="3794"/>
                </a:moveTo>
                <a:lnTo>
                  <a:pt x="20878" y="10800"/>
                </a:lnTo>
                <a:lnTo>
                  <a:pt x="68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 rot="5400000">
            <a:off x="-360" y="2744640"/>
            <a:ext cx="381636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欣赏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708360" y="1628640"/>
            <a:ext cx="403236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5032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谈感想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00" y="2205000"/>
            <a:ext cx="856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cc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〖你拍一</a:t>
            </a:r>
            <a:r>
              <a:rPr b="0" lang="en-US" sz="1800" spc="1" strike="noStrike">
                <a:ln w="12600">
                  <a:solidFill>
                    <a:srgbClr val="ffcc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12600">
                  <a:solidFill>
                    <a:srgbClr val="ffcc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拍一</a:t>
            </a:r>
            <a:r>
              <a:rPr b="0" lang="en-US" sz="1800" spc="1" strike="noStrike">
                <a:ln w="12600">
                  <a:solidFill>
                    <a:srgbClr val="ffcc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12600">
                  <a:solidFill>
                    <a:srgbClr val="ffcc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八荣八耻来会议〗</a:t>
            </a:r>
            <a:endParaRPr b="0" lang="en-US" sz="1800" spc="1" strike="noStrike">
              <a:ln w="12600">
                <a:solidFill>
                  <a:srgbClr val="ffcc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24720" y="4941720"/>
            <a:ext cx="13622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050920" y="907920"/>
            <a:ext cx="44658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76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漫画专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5400000">
            <a:off x="4463640" y="2600280"/>
            <a:ext cx="540072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以艰苦奋斗为荣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5400000">
            <a:off x="4752000" y="2888280"/>
            <a:ext cx="518508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以违法乱纪为耻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5400000">
            <a:off x="4572000" y="2780640"/>
            <a:ext cx="525636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以团结互助为荣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5400000">
            <a:off x="4678560" y="2745360"/>
            <a:ext cx="504216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以愚昧无知为耻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 rot="5400000">
            <a:off x="4390920" y="2889000"/>
            <a:ext cx="532908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以崇尚科学为荣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04:28:3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32:26Z</dcterms:modified>
  <cp:revision>1</cp:revision>
  <dc:subject>主题班会课件(分28大类): http://shop62905894.taobao.com</dc:subject>
  <dc:title>主题班会课件(分28大类): http://shop62905894.taobao.com</dc:title>
</cp:coreProperties>
</file>